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9B9B-A28D-4DED-8F68-729DA009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7DD-894C-4D3D-B514-A3B81955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FFD-F3EA-4258-B08B-85933CF8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F9E-3C43-4803-89D0-CE87FBA4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D817-4208-40A6-AC02-495FA318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A469-5191-4F7D-A3D1-8AFC265F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079C-C8E0-4F33-A832-B8507C32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6B47-263D-4936-8B0E-18E77266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5714-CB2F-4E65-8CFE-FCA65871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B4BA-23F7-4C58-87A1-62E5C5FA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201F-2998-4E51-BCF4-EC564E1B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D9E-E186-43BE-A00C-856E4272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8561-98D8-4D0F-9939-DA0DEEF0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FD2A-A38E-4078-8359-D745D66C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39DA-0C30-45E6-A3AD-38BA48EB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3F91-F033-4BA5-BD0E-550BE651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2EA0-1317-4B1C-85B1-6D6AFEEF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80EF-4967-4BB5-9C46-1A3141A5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4F36-3159-49F2-B1D2-B06421D4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556C5-967F-4B1D-94A1-A0022981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566B-6ED0-4651-96AC-525F4A21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5BA0-5003-461E-8179-83160032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D1F-7528-4DAE-B0CC-1A8AEB3A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724F8-5D64-44E0-BA08-C4356182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FB01-145A-4CFE-A092-F51BE9AF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A248-F2BF-4410-88EC-14603D49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E53C2-3EF7-4206-8180-A008BE63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09C53-AC80-4767-BF46-06948156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2F868-A2E9-479F-AB97-C0D8026B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9FA5-C7F9-4CB7-9840-F39BD91C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F01EB-74C2-45FC-B8A7-A3C488D5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93191-7C04-4DA9-987F-5DC40E91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4B0CB-69B6-4E79-9520-3396574D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A8E-078C-4092-9674-CD6EF4FA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E0B2-C754-4E9D-B2C1-98B8EAB7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AE06A-45AF-47D2-90B5-35D89C76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8B06D-A2DF-41B9-92C8-E775AE50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5EEB-A52F-4765-B720-6DB3CEF8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A126D-0C5B-4FF2-A461-5CA72E38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16740-1E02-47EA-97F3-8B9154DE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EC09D-172B-46AC-8A1E-7E5E8861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5B365-944C-4692-BADC-B862FDDB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19ED0-00E7-4FA7-82B0-AE069352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512F7-9F8C-42F2-8E0B-D8AD9198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67E-AE11-4B5E-BA0A-F906BB45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F5E72-6C6E-4D35-B62D-B01A18AF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1AB51-F5C0-41F9-8314-492E680B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C6E8E-382B-4A71-964C-4C062B08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6E04E-3D6D-48D1-8E98-4BB4A028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43C3A-A118-47B5-A043-A2055A4E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10456-A6CD-4258-8090-362A95E0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9F505-8184-4DB7-BB94-9C3A6EB6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4B41-0E44-4A5D-AC98-66E92D9D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150BF-81DE-43BA-88F5-802DF5DD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D72F2-DD82-4185-B53C-8D9E5E8E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391-4090-4CEE-AA1E-8C0F432E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4BD1B-4728-4EA3-815B-956434CE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41BB6-4D0F-4964-9ED0-7C9B67A1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7EACB-0BF3-4412-8685-203CF077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56F09-5771-435A-B866-6011EC09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2BF7A-F451-4617-AAA4-CC1E6A31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FB93C-77E2-4FDF-B55C-7C2AFE0A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34591-6FE1-4B78-B25C-F2A249E8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1E8A9-72F7-4569-9645-3EA45DB7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EAFDB-F592-4C0B-A242-3EEA8E40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6B37F-3101-4C88-AC34-6FB9BF4C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D5C-787C-484B-84EC-A025BE7C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0287C-14C0-463C-A96B-00ECB4B2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57447-5165-40F4-B1CD-89C67832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9A012-2709-4687-8E6B-0AA913F1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E4D5D-CED6-40F8-A00A-15326B05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2F979-72B8-4B58-BD8A-51F7A418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693E7-6B0F-4717-A4C1-179C326C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41548-E54E-4A35-87CE-22A1E11D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A52E8-9D38-4EB4-9F59-22CDBDAB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24B38-FD1F-43E4-8E82-16D8FECD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90D98-AC66-43EF-B1EE-6684C165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A5A-7E6B-4213-92E0-3335CF41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1FB0E-89A2-4452-A160-40F2DE2D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A4B35-A7A4-4517-92DF-01E26DCC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7F7B4-6B94-4152-BDF7-36B74BE0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3E03F-839F-4587-BA87-2B4CB3DC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FE05A-F4A6-411A-9985-EB68AC7D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6BB89-5031-43D8-B928-80F8C74D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096E0-1A7B-4620-9EB7-092F0E8E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B482B-2388-4B40-A39D-678D9C92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2156A-DDD1-4751-BE01-7374B456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6E093-B512-48C0-B357-E67015CF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073-DEE8-47BB-BE45-C175F18E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EB2AD-D60C-4478-8855-423FC09A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B8C5D-B96F-4577-B934-8A0B2192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7B4EC-6D10-4EC6-8DBE-D2889517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461B6-072C-4BBE-9620-54A6D032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AFDBD-5289-4007-9AF0-7717A784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9A38F-801A-4C1B-8FD2-A7FFFF8A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35F24-E6F3-4EC9-9766-F59A6E3A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2DB3-18E2-408A-A121-9232B1DB9B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3C7B-A9C5-4A61-9B63-4C8A7E3F7C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415F-8469-4353-8293-7B7494CFAC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31E6-3C5F-45B6-B3DA-AB1D3E7398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4C84-876D-4CAE-A64D-6800B451E8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2881-C105-4002-B640-1CC3B1C42A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660F-DBC1-41AD-AF9C-81D48B7BB4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EADA-771F-4AC9-965B-0D6AF3E761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swelch@nsf.gov" TargetMode="External"/><Relationship Id="rId2" Type="http://schemas.openxmlformats.org/officeDocument/2006/relationships/hyperlink" Target="mailto:vkass@nsf.gov" TargetMode="External"/><Relationship Id="rId3" Type="http://schemas.openxmlformats.org/officeDocument/2006/relationships/hyperlink" Target="mailto:pjennings@nsf.gov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725400"/>
            <a:ext cx="8205840" cy="2865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Sandra Wel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Program Directo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1029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0" y="15228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ximum award- $150,0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y use film, TV, radio, web to disseminate research finding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aboration between NSF researchers and media experts strongly encourag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posals can be submitted at any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FBD1-7A22-4BDF-BE68-B8066B93DAB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7315200" y="50292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icadas and Forest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aired on WFYI)-used video footage from the research to produce a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cumentary film on periodical cicadas, DVD distribution to schools; an interactive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uter-based presentation,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-D animation of the cicada life cycle for use in a science cent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ea Chang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multimedia)-documents climate change research; video on website, podcasts, kiosks in science centers.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A9D6-CB3A-48C6-9311-23257125125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Title 4" descr=""/>
          <p:cNvPicPr/>
          <p:nvPr/>
        </p:nvPicPr>
        <p:blipFill>
          <a:blip r:embed="rId1"/>
          <a:stretch/>
        </p:blipFill>
        <p:spPr>
          <a:xfrm>
            <a:off x="225360" y="29844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7010280" y="526716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out ISE projec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tact:  Sandra Welc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swelch@nsf.gov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out CRPA propo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tact:  Valentine Kass or Wyn Jennin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vkass@nsf.gov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; </a:t>
            </a:r>
            <a:r>
              <a:rPr b="0" lang="en-GB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pjennings@nsf.gov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SF Solicitation #11546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Footer Placeholder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61EF-C96A-405F-92BF-4512753BB44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Title 3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Documents and Settings\swelch\Desktop\nsflogo.gif"/>
          <p:cNvPicPr/>
          <p:nvPr/>
        </p:nvPicPr>
        <p:blipFill>
          <a:blip r:embed="rId5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llectual Mer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ader Impa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983304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4C70-E0E8-495F-AC37-54C22867DD9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7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1) How well does the activity advance discovery and understanding wh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omoting teaching, training and learn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2) How well does the proposed activity broaden the participation o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underrepresented group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)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To what extent will it enhance the infrastructure for research 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ducation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C542-710C-4D0D-AE3F-B256F308945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2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4)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ll the results be disseminated broadly to enhance scientific 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technological understand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) What may be the benefits of the proposed activity to societ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9191-B855-48CF-A882-8B439747AA7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ests in projects designed to increase public interest in, engagement with, and understanding of STEM. 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E Solicitaion #11-54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348B-8750-4B40-8272-C9B004CBBA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38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7238880" y="50292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luntary, self-dire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tivated by personal needs, intere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ped by prior knowledge, experi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diated by social/cultural contex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mulative, lifelong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0062-ECF3-4233-8681-7865948D7CE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7010280" y="48006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ng child through older ad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amil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hildren/youth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utside formal school activi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ults/par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fe-long learn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FE83-A9A8-480C-89E4-CB7BCC97C94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hibitions (permanent, travel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levision &amp; Radio Series; Fil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b based; Cyberlear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th &amp; Community-based Programs; Citizen Science Progra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xed compon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F203-73FA-4FFE-ACB6-E76F476A2CF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posal submitted by  currently funded NSF Researche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ader dissemination of research findin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mote interest/engagement of public in STEM lear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288D-1CD1-4A80-A24D-C8DA571550F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1" name="Title 4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17040" cy="1341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6:55:38Z</dcterms:created>
  <dc:creator>swelch</dc:creator>
  <dc:description/>
  <dc:language>en-US</dc:language>
  <cp:lastModifiedBy>swelch</cp:lastModifiedBy>
  <dcterms:modified xsi:type="dcterms:W3CDTF">2011-09-13T20:58:22Z</dcterms:modified>
  <cp:revision>68</cp:revision>
  <dc:subject/>
  <dc:title>Informal Science  Education Program   National Science Foundation</dc:title>
</cp:coreProperties>
</file>